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302-A195-4834-AF81-F168D8F8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96B-A8CD-48B2-B94B-7F8A314F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170-CC18-4CA1-B742-7F7B6C5A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F4C-CAAA-4B1E-9000-61785233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30F-631A-425B-B707-8E749766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C4F-F3B9-4468-B0F9-2D10237E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B1A-1632-419F-9406-1CD77BEA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FB7-0A51-4A78-99D7-78B8B304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166-0B05-4D70-918B-AD10425C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770-987A-4D63-8303-3877C92B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904-C5D9-4BFE-94B8-6E95BCA6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857-2B57-474A-9F09-ECEB0116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3571-6FEC-4408-B970-5A9791D89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dering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ow the Waterline”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560" y="18288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95680" y="144792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an aspect of culture from “below the waterlin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your culture regards this aspect of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2 examples to support your descri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why you think your culture regards this aspect in the way that it does --what do you think this says about your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ow the Waterline”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560" y="18288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95680" y="144792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an aspect of culture from “below the waterlin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your culture regards this aspect of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2 examples to support your descri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why you think your culture regards this aspect in the way that it does --what do you think this says about your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your researched culture to your own lif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(or how little) are you affected by your researched cul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other cultures have an impact on you? In what way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00240" y="18288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90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pace below to document your sources of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pace below to document your sources of im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4 Components of Culture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3 “Below the Waterline”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Analysis and Works Cited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15 words per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2 image(s) per slide. Use “border” fea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mages explained (either with captions or in the presentation itsel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formatting of background, color scheme, font selections (hierarchy &amp; maximum of 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Notes (if used) all in own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limit: 5-7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y: Confident and well-rehear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: Slow, loud, clear. You need to be heard throughout the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ure: Face the audience and use only purposeful movements and ges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Notes: Optional, but used for support only. Don’t just read from the slide and/or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: The goal is effective communication, not just getting it d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Use thi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lide contains a description of required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se descriptions to guide your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PowerPoint with your own researched facts, opinions (where indicated), images, captions, colors scheme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all instructions as you 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dditional requirements in final two slides of this PowerPoi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1: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572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features of your country’s geography have affected the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 Location, Relative Location, Climate, Weather, Terr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Statistics (Density, Composition, Distributio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what way(s) does the geography of your country influence its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0516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2: Science, Technology, and Inno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5410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spects of Science, Technology, and Innovation affect the culture of your coun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ions, infrastructure, degree of modernization, tools and ways of doing things to make life easi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what way(s) does the Science, Technology, and Innovation of your country influence its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3: Beliefs, Values, and Cus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s of Beliefs, Values, and Customs affect the culture of your coun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s, life cycle events or ceremonies, annual ceremonies, status - These can become guides or patterns for how to l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what way(s) do the Beliefs, Values, and Customs of your country influence its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16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4: Social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s of Social Organizations affect the culture of your coun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, government, community organizations, peer groups, education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what way(s) does the Social Organizations of your country influence its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0516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5: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105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orms of Communication affect the culture of your coun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s of expressing ideas and emotions – language, nonverbal communication, art, mass media, communications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what way(s) does Communication in your country influence its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0516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6: Fam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and 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amous people and/or places affect the culture of your coun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 and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I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cal and Social L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what way(s) do Famous People and Places in your country influence its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0516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ow the Waterline”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560" y="18288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95680" y="144792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an aspect of culture from “below the waterlin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your culture regards this aspect of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2 examples to support your descri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why you think your culture regards this aspect in the way that it does --what do you think this says about your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48:23Z</dcterms:created>
  <dc:creator>Robert Gold</dc:creator>
  <dc:description/>
  <dc:language>en-US</dc:language>
  <cp:lastModifiedBy>ICT Office</cp:lastModifiedBy>
  <dcterms:modified xsi:type="dcterms:W3CDTF">2007-09-17T23:51:07Z</dcterms:modified>
  <cp:revision>4</cp:revision>
  <dc:subject/>
  <dc:title>Considering Culture</dc:title>
</cp:coreProperties>
</file>